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media/image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87A2-0C06-4937-8699-E62D00D1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F5D1-125F-4A60-8DEB-909EB80D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A2B2-573D-4E4F-BE69-55E3B482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C0E-78E4-44F9-AA0F-87F108B8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7B5-AB58-4949-859D-E421CABE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41F-85E0-442A-8601-6392A195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DF0-53F5-4F9E-886E-690BF77A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54F3-7556-449C-A0F5-6F271916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3C0D-74E0-4787-8E8D-519DD53E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05F-BFA5-42C4-B86B-C6EB70B5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81A-7436-4F8D-ABBE-C2C6E37A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B36-B6E3-4597-98EA-A9D911E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6F9-2A3F-45DD-8BEB-33030D78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83C3-C807-4183-82E0-442BD12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A7E2-F69D-4F7B-84B6-22EFC0B6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E1AF1-026E-4C0F-8FB9-E8C36A57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34BBE-56C1-403A-900B-2F486D7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C2E32-4DAD-4658-AF6C-B74D4AF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72430-7F95-4E61-8406-980C8CD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0C67-67CC-46EB-A6B5-A2144FD5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F61E-7AD9-47B0-BF24-6DC0AFD3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D561-E555-4113-9D49-46011719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77931-D796-42E8-8700-A34556BD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41C-B144-4114-A8ED-22C86339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4D5CE-BD0D-4370-B097-3EDA9D7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D001-4A4B-4A10-90A9-4425BD5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780D-CA43-4FC6-B2FC-D1E0093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BA8B-48BF-4949-94EC-C788870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12DAC-B3DE-4379-A6E4-CD3680E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925C0-7A23-4865-8C6C-9E72DD1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717BA-DB49-4A93-9AD5-B6B2DE1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7DE0E-E373-446E-AF7E-9087EEE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44FC-BB0A-4CEB-93C8-49D23FC8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BFB6-27CE-48EF-9192-DD5DACC5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DCE-A4D5-4C27-B626-A1EF40FB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F2C7F-19D9-432D-960A-B64C972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5AF30-F85E-4F79-9BF8-C3E74FB3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CD1A1-121B-436D-9512-0366BD8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D86DE-36E3-4AB2-B2CB-7BC5A20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3295E-6DC3-45C2-8F39-7ED460F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9C3C9-7C46-4F42-B016-A3136B82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C1E3-AE5A-4B06-8A73-13D669CC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868C-04DA-41A1-8F9A-CC05D4B6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01182-3D1B-4D32-A344-33F8775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7180-4FA5-483D-BF06-0D7FE84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E1CD-5158-4C54-8782-80CB77B9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12330-6887-48B7-97DF-F23E22D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7B098-9B00-48DA-B266-0CBF30AE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70464-24CE-4FF0-B687-BA1DF06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849EB-B60A-4853-89D4-16FE1F9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DF54-5C88-41AF-88AD-33094B29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CF7A0-8EAE-484B-9D10-67A670E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82F6F-8DE0-4CEE-9B04-259729C9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159FB-C2AD-4BEB-ADBA-47DFD66B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BC934-4DC7-426E-B99B-732DF5A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ECA4-41D9-4351-9B30-28F2D6B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2D4-E123-4EC5-8661-64D9D19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AE81-2EDD-4CFB-A812-554D432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B1F6A-E24C-45F6-A0D9-BB1AD6A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D1E27-33D8-4EAA-9D14-86822A7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6B649-57C3-4905-B729-7BC8AFD2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5E9D7-0A6D-41EE-8BF1-C32C45E3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4083A-8518-4288-B326-BCC94D23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6BB0E-CEB8-4104-9B6D-E0269AAC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F47FB-CCFC-4893-9372-8EDACEB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7305C-E547-4CEB-95AD-0188695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E35D8-AE77-4CE1-839D-90E864CE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8B0-5307-4E8A-A7CD-8DBCA95C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532DD-457D-4597-AA67-6FA22C48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5FE3A-D12A-4886-AA0F-DE1F06A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76E8B-3835-4684-BCF7-5A1ED30D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311BB-6B0B-4108-BA46-E745883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0571B-C664-4AD6-8928-FA0EF76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473D4-725D-4838-96C3-63276EAE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55833-954B-4A21-9479-A0439698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35D5A-A64B-411B-B365-58D4580D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722B-0228-4340-A02B-920608C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755CF-11A5-4E1A-BA83-D46A4E5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8D81-029C-427F-8037-2FF5AAA6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4F905-BC21-4B8C-83E9-7EC803E0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4E3BE-AA46-4DDF-B77E-A5B0D0FB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AFF69-8311-4F5A-B738-6BFD72E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1E339-861B-43E1-B55B-2A17E851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3F3D4-C1C3-4AA8-8064-93F18ED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F1365-1324-496F-8578-65BEB73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3267B-7933-4114-82C2-4B7C40C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94DF9-FC65-4D51-B46A-F23C6FA0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88DAE-4766-45AB-9694-44E90C3E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32CFA-D7EA-48F0-A463-F67BA77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1F8B-FEDF-4354-A57D-4D3129F0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F57B1-2556-4DF1-8D6F-49337DC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22C8B-5659-4EB1-9A30-E106FF2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C394D-20DC-49CD-9238-7C468D4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40DD4-1589-4AB8-BA4A-7C4838B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476E4-9B05-4E66-ABA3-9CF276EA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B3631-8343-42EC-98B0-6E70B3E9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D475A-70A0-4A13-9C1F-6381DB8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0E445-D7E7-4F74-BA86-A6E8AA0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2F7B1-0572-46A8-A345-09CF68F1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69357-5080-4788-A8CE-F87BA33B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21D7-5238-4076-94E8-F4094F3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44DE5-7E01-4CDE-A429-A1AD66A8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37D-622B-43A8-8CC4-8DAEC3B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829-22DB-4A74-B794-FF0337A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4C5-061F-4058-B626-DD293CF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48A-F68D-42C6-BB6A-9EB0273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E155-18AA-41D0-A8A5-D794DAD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389-9DDD-4205-A9FB-57D78F00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767A-7352-4087-97E2-A05AB098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742D-3F52-4425-A8D6-CD2F4AD0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46D9-B64F-44C3-9003-B694B19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4D72-C0B3-4B14-ACA1-E33466C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B56B-E8B5-4F4F-9DA1-2008228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8555-597A-4C80-BF92-EC71AC43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5A1-93B6-4549-A28D-C736B4B6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5241-B2E7-4545-BDE1-41963B80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4502-5514-464C-8F7B-A37F2B3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0D4B-3888-41D4-BC32-7296B41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A63C-DF7C-48FB-A4D8-D9C3755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5E05-E681-42BB-A9E7-891A0FE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F25B-2ED7-41BE-A1E5-4BA75353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7452-C028-4DD9-A047-FEEF3F86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31CE-371B-4AB5-B6F0-BCD0A8B5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9F66-7E69-4C65-AACC-113AF9F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6123-1D66-4984-93BF-9015037B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6D2-C986-4A59-BF7F-573A81AD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3BCA-399A-4809-8F3D-94CC765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6671-0D94-43E0-B906-08B450C3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E861-0A53-41C7-BF44-6523132F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863B-B049-4695-9968-205BF1DA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F436-63F5-48F1-964F-9C65BFA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18BC-9C17-46FF-9B14-8742B64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F535-6B64-4BF9-A8C4-749F06BD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5C62-3A7F-42D2-A545-1E0F0778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F04E-2B5F-4569-AE73-DC537FE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2133-BED7-4104-9427-F315B23F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C50-00A3-4502-9688-1D8D0E7F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C8E0-E3F3-4FC4-97D6-B62AC4E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0F76-862F-49EA-B53A-CB5643E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85352-7408-4892-B2ED-D445402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B174-F1E8-4FEA-B6DF-1C63997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1294-629E-4710-B1DF-E7ECE41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93F0-0606-42FA-B9F5-F37F592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5D7B-5664-4655-8208-DBBE3F1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75A9-00B8-437A-A4F6-DA3DE12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5A1E-3E46-476E-BD37-5BB0BC5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FDC8-1B95-43AA-BF84-043BCC5F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1A3-01B6-42B5-9FD6-B585D24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437A-E5A7-4956-BB77-8E811DD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C806B-2252-4962-92AB-A99AE779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69D2-8140-429A-9669-6DCA826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D29D-CB3E-46CE-8F02-1AE41103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62CA-E0F1-4748-8D25-9A1D820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8802-5168-4606-B030-64E71726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FB79-C9D8-453B-9949-D0C1181D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55BF-3F01-4D80-8F3F-3913026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B9932-D1A2-45ED-9FBC-0384DA6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3CF2-68A9-4253-8982-8564D67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403-E17B-42DA-A25A-1FE19894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34FD-073C-451B-AA5D-E8E9AFC6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C072-D4FF-492A-A521-233D628A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B932-801E-403D-9425-8C385126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5031-D9CA-44F5-A29F-521B657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C74F-F3D5-4824-AB8B-082290D7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7C9CF-69CA-43DF-B5E1-01BD0550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A3EA-CEAE-49AC-8C02-9C3A58D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19D3-195D-45D2-BBC0-CCC210A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6A17-FF15-4A03-918B-F58342A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9177-16C7-4BE3-A0CB-C22E36B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D06-FB20-42FD-A262-1A2D6295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2762-AC4C-4819-812C-F2C90B0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BC28-1E8F-47BB-82BE-4274CA1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7032-4339-4730-99B9-E35B6E80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2B98-DFE7-4726-84B7-3C83E5D1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2B30-E03A-4131-923D-B92B1C43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C9E1C-784F-4E1B-88D5-AEF31D82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F2CD-C15B-4535-82DC-144C67D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A9E3-2D37-4B00-913C-01D3D89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5C32A-FB15-4524-91BE-EE34BA7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B7C5-42CF-4F09-BD1D-F42B714F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0FC-4D8D-47AD-B160-1F2E2ECB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FEB2-D7BC-4AEB-BF77-67CDAE6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61F3D-95D2-462E-9732-28B9C08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0FBF-B0A1-4955-A2F9-97C668B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7083E-1D17-497E-B97E-4173454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B52C0-021B-46C2-9D7B-56D77D8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DF975-82DA-4B85-9F93-F1CCD4FE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9204-935D-4385-A58B-C2ED5C1A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EBFD-8446-46B5-AD94-4136EDB7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2B1E0-C04D-4873-984A-CE284F62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7BED2-816C-4BE4-962C-613A9D14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C24-0839-4A34-8C21-5D034C37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2E1-7856-4497-AA34-B3072010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4E13-B82A-4791-BE09-C3306518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1775-E6D7-4EF5-906F-EDF63EDF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C403-994A-4FE9-A364-B76BFC93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3A8-A281-4971-865F-013E2AF6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9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1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3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4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531-1C2A-4275-8897-1B7C92870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ADE-75D3-4635-8E82-8B7A91AC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821-5449-41FF-97E2-09B0F2B4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F79-85D4-4AAF-82EF-BE1A28F7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9DA-62C3-472C-BC81-3ABC1AF39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22AD-2349-45B1-A8CC-E7FCF79F4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2576-F2D3-490D-9EB8-4AA87DDF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1035-B50A-47DD-9893-267543DC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823-8554-4365-BD68-EA1FDB41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2178-A372-48BC-853E-0247E438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바탕"/>
              </a:rPr>
              <a:t>Työ,ja t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6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4320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6238-DF56-4E2D-B927-40D6D1210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/>
          </p:nvPr>
        </p:nvSpPr>
        <p:spPr>
          <a:xfrm>
            <a:off x="2133720" y="2057040"/>
            <a:ext cx="6248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leksi ja Teemu nostavat painoja. Aleksi nostaa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 30 kg painon päänsä yläpuolelle (noin  0,60 m) 10 kertaa 15 sekunnissa.  Teemu nostaa  50 kg saman verran päänsä yläpuolelle 10 kertaa  puolessa minuutis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Kumpi tekee enemmän työtä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Kumman teho on suuremp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7" name="Picture 8" descr="MCj03328720000[1]"/>
          <p:cNvPicPr/>
          <p:nvPr/>
        </p:nvPicPr>
        <p:blipFill>
          <a:blip r:embed="rId1"/>
          <a:stretch/>
        </p:blipFill>
        <p:spPr>
          <a:xfrm>
            <a:off x="0" y="2057400"/>
            <a:ext cx="2460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44CA-BF12-43C0-ADCF-5DF06286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kä on työtä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ysiikassa työ tarkoittaa eri asiaa kuin arkikieless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ysiikassa työ tarkoittaa sitä, että käytetään voimaa liikuttamaan kappaletta ja voima ja liike tapahtuvat samaan suun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Dian numeron paikkamerkki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CAE9-B0F1-4A63-A7A7-810A7D071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yötä vai e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nko siis työtä k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Opettaja pitää tunt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Hiiri työntää nokallaan pientä juustopalaa lattian poik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5" name="Picture 4" descr="j0346643"/>
          <p:cNvPicPr/>
          <p:nvPr/>
        </p:nvPicPr>
        <p:blipFill>
          <a:blip r:embed="rId1"/>
          <a:stretch/>
        </p:blipFill>
        <p:spPr>
          <a:xfrm>
            <a:off x="5257800" y="1676520"/>
            <a:ext cx="3046320" cy="38462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6" descr="j0345794"/>
          <p:cNvPicPr/>
          <p:nvPr/>
        </p:nvPicPr>
        <p:blipFill>
          <a:blip r:embed="rId2"/>
          <a:stretch/>
        </p:blipFill>
        <p:spPr>
          <a:xfrm>
            <a:off x="2438280" y="5486400"/>
            <a:ext cx="933480" cy="62856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8" descr="untitled"/>
          <p:cNvPicPr/>
          <p:nvPr/>
        </p:nvPicPr>
        <p:blipFill>
          <a:blip r:embed="rId3"/>
          <a:stretch/>
        </p:blipFill>
        <p:spPr>
          <a:xfrm>
            <a:off x="2666880" y="4572000"/>
            <a:ext cx="152424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Dian numeron paikkamerkki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E149-BF75-4B54-9A1F-AC3942D6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8" descr="untitled"/>
          <p:cNvPicPr/>
          <p:nvPr/>
        </p:nvPicPr>
        <p:blipFill>
          <a:blip r:embed="rId1"/>
          <a:stretch/>
        </p:blipFill>
        <p:spPr>
          <a:xfrm>
            <a:off x="1828800" y="1295280"/>
            <a:ext cx="1523880" cy="819360"/>
          </a:xfrm>
          <a:prstGeom prst="rect">
            <a:avLst/>
          </a:prstGeom>
          <a:ln w="0">
            <a:noFill/>
          </a:ln>
        </p:spPr>
      </p:pic>
      <p:sp>
        <p:nvSpPr>
          <p:cNvPr id="1610" name="Tekstikehys 3"/>
          <p:cNvSpPr/>
          <p:nvPr/>
        </p:nvSpPr>
        <p:spPr>
          <a:xfrm>
            <a:off x="348480" y="2590920"/>
            <a:ext cx="74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ri työntää juustopalaa, ja käyttää voimaa kappa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u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kstikehys 4"/>
          <p:cNvSpPr/>
          <p:nvPr/>
        </p:nvSpPr>
        <p:spPr>
          <a:xfrm>
            <a:off x="407160" y="3581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 tekee työtä kitkavoimaa vas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kstikehys 5"/>
          <p:cNvSpPr/>
          <p:nvPr/>
        </p:nvSpPr>
        <p:spPr>
          <a:xfrm>
            <a:off x="261000" y="487692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pettaja ei tee fysiikan merkityksessä työtä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1DC-899D-4ABF-8D99-EE78D418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kä on siis työtä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24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atti Vanhanen pitää puheen YK:n juhlistunnos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Vedät leukaa liikuntatunn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Pidät 20 kg:n painoja sylissä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Äiti kantaa lasta sylissä huoneesta tois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Isä työntää lastenvaunuja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Opettelet ruotsin san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Kannat koulurepun  selässäsi kouluu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E9F-EEC6-4384-AEF8-0EAF5225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yö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ö = voi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바탕"/>
              </a:rPr>
              <a:t>ma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man yksikkö on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kan yksikkö on m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n yksikkö onJoule = new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metri,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ksi 1  Nm = 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kstikehys 4"/>
          <p:cNvSpPr/>
          <p:nvPr/>
        </p:nvSpPr>
        <p:spPr>
          <a:xfrm>
            <a:off x="2294640" y="251460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 = F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Dian numeron paikkamerkki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A97-F219-4133-BDAA-1670DDBB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=F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Mies työntää laatikk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10 metrin matkan 20N:n voima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Laske ty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4" descr="MMj03546620000[1]"/>
          <p:cNvPicPr/>
          <p:nvPr/>
        </p:nvPicPr>
        <p:blipFill>
          <a:blip r:embed="rId1"/>
          <a:stretch/>
        </p:blipFill>
        <p:spPr>
          <a:xfrm>
            <a:off x="5791320" y="1295280"/>
            <a:ext cx="2652480" cy="2652840"/>
          </a:xfrm>
          <a:prstGeom prst="rect">
            <a:avLst/>
          </a:prstGeom>
          <a:ln w="0">
            <a:noFill/>
          </a:ln>
        </p:spPr>
      </p:pic>
      <p:sp>
        <p:nvSpPr>
          <p:cNvPr id="1624" name="Suorakulmio 5"/>
          <p:cNvSpPr/>
          <p:nvPr/>
        </p:nvSpPr>
        <p:spPr>
          <a:xfrm>
            <a:off x="1752480" y="4724280"/>
            <a:ext cx="457200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W = F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W  = 20N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10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=  2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=   200   J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Nostoty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Dian numeron paikkamerkki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22F6-798E-4CDC-A86F-5F359E72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kstikehys 3"/>
          <p:cNvSpPr/>
          <p:nvPr/>
        </p:nvSpPr>
        <p:spPr>
          <a:xfrm>
            <a:off x="1075680" y="2209680"/>
            <a:ext cx="62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n nostat kappaletta , teet työtä painovoiman voittamis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kstikehys 4"/>
          <p:cNvSpPr/>
          <p:nvPr/>
        </p:nvSpPr>
        <p:spPr>
          <a:xfrm>
            <a:off x="1074240" y="312408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 = G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kstikehys 6"/>
          <p:cNvSpPr/>
          <p:nvPr/>
        </p:nvSpPr>
        <p:spPr>
          <a:xfrm>
            <a:off x="1225800" y="40384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 = pa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kstikehys 7"/>
          <p:cNvSpPr/>
          <p:nvPr/>
        </p:nvSpPr>
        <p:spPr>
          <a:xfrm>
            <a:off x="1306440" y="46483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 = nostokork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Picture 2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5145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41D9-9AB8-4A3F-B749-AF232044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eh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ittaa sitä, miten nopeasti työ tehdää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eho = työ:a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00"/>
                </a:solidFill>
                <a:latin typeface="바탕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ehon yksikö on watti, 1 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02:17:16Z</dcterms:created>
  <dc:creator/>
  <dc:description/>
  <dc:language>en-US</dc:language>
  <cp:lastModifiedBy>Ritva Tamminen</cp:lastModifiedBy>
  <dcterms:modified xsi:type="dcterms:W3CDTF">2009-10-03T17:52:22Z</dcterms:modified>
  <cp:revision>36</cp:revision>
  <dc:subject/>
  <dc:title>Työ, teho ja yksinkertaiset koneet</dc:title>
</cp:coreProperties>
</file>